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580-A015-4A84-A6C6-20A770B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C50-8466-4F45-AC63-4DF78A0D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13E-901B-4213-9C3C-69755C37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A0B-D94D-4DB4-AE91-24495014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8AF-3F5B-4F66-B99D-DE3C503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EDB-A25B-4E09-BC9F-443C4F0F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8BB-C464-45FA-8749-03C8123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CDD-1B28-4FAB-AD5F-B625004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660-0F68-4B5C-8E9C-884D2A4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35-6E31-40F6-899A-AB433B2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652-A5DB-41CA-9AC3-25538C9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7FC-DC3C-4248-A225-B68066E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34DC-349E-4671-AE38-1BAEA552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v diaľke sa 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blíži sa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niečka zlatý lúč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ca už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 vesmírnej diaľky jas luny sa sk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modlitba vďaky nám zo srdca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tmavá už spriad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ášť svoj v údol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ny naň p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ťa strieborný p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tíchne dňa vra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nebesk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pánku zas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08-01T16:46:04Z</dcterms:modified>
  <cp:revision>10</cp:revision>
  <dc:subject/>
  <dc:title>Je veľký náš Pán, on slávy je Kráľ Nech do všetkých strán  spev vrúcnych znie chvál.</dc:title>
</cp:coreProperties>
</file>